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5C8B-A9A6-4B9C-96FA-E4CF60411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03CA-9071-41C0-96C4-3E00C3F94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an index card, complete this stat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9590-1372-464B-9A62-E845C133E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able groups, brainstorm responses to the stem “When learning about linear growing patterns, students struggle with …”</a:t>
            </a: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0F26-0BE2-4A3D-90FE-80BF6CDB7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F094-9FF2-4B92-A268-A38674AFC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39F7-B7F4-43E1-B609-3A166ED18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use participant responses from previous day’s exit cards to create this slide&gt;</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9809-7FCB-4594-9764-BF30233A3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get an article from Ruth&gt;</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5B43-154C-4586-978C-8C4914DCD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are some examples of how this strategy might be used with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 is highlighted since this could be the start of a KMWC strategy (see Think Literacy Math – Know, Model, What, Cross Out, page 4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iscu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participants felt during the strategy and how this strategy can help build a MTLC (Math Talk Learning Communit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s/con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itional examples of how the strategy could be used.</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D902-0BEB-410C-ADB4-7C85E2C7C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0CA6-00B8-4B26-ACA8-0A4DAD185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able groups, brainstorm responses to the stem “When learning about linear growing patterns, students struggle wi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rite each stumbling block on an index card. These cards will be eventually given to the next table where they will brainstorm strategies to address the problem. Then the cards will move around the room where you will have an opportunity to add to the comments. We will collate these for you ton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8DFE-6FC4-4312-BA37-CBBBC0394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near GROWING patterns have been a focus in our work today and will continue to be a focus over the next two days. We know that other patterns need to be considered in our planning. There is a bridge from Linear Growing Patterns to Linear Relations. When you think about crossing that bridge here are some considerations to keep in mind as our community continues its work over the next couple of days.</a:t>
            </a: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E4F8-5E10-4A87-A160-A45A3F4FE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5DA4B-76B5-4824-ABC9-0413B5621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05AED-AEBC-4FE0-944E-B53250571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8FA85-35D3-446F-B619-6DB207828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3FC3E-7B51-44DE-B076-43E63284D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69B2C-3582-46D2-ACA9-2F70022C0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F5BDF-7647-402E-A277-DA59848F0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B1F37-0C5C-4C25-A30B-2A15C68DC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B2690-E87F-4066-A37D-AE7D12088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64CD0-E361-4ACE-BADB-B21EDCB65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87058-3979-4D33-BCE0-3D0DC3555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D2D88-E651-460D-B713-21D75F782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9BA5B-D22C-40FF-8A48-6A95F26CE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09791-8DE0-43D0-8087-8838B9F69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B5BFC-AF5A-4988-B36E-B424929DE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A6103-69DD-4B06-8C08-E8346DDEE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6BF3A-74C7-4CB7-AD9D-F1F9DFF53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8A243-F214-4DE2-BED5-9F5C5AC42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23E91-5BAE-4379-B529-6CFC5BF01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814E0-FF20-4F4D-B7C7-BC7990456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79BD7-F3C0-4BE2-BDA2-A3CB5F6AD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EE200-F8F8-4DAB-B078-362F540E1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54DEA-12DC-49F6-A44A-C1071D4AC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CCE22-F4CD-4F40-9296-31CFAB097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C687-0492-4C7D-92A9-20882E0BE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64ED-C833-42A2-BC9F-CB06CFA4F708}"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E1C8-E2FA-42BC-8F3F-162DB37D9B7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469b"/>
                </a:solidFill>
                <a:latin typeface="Arial"/>
              </a:rPr>
              <a:t>Stumbling Blocks and Solu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Important Book</a:t>
            </a:r>
            <a:endParaRPr b="0" lang="en-US" sz="4400" spc="-1" strike="noStrike">
              <a:solidFill>
                <a:srgbClr val="0d469b"/>
              </a:solidFill>
              <a:latin typeface="Arial"/>
            </a:endParaRPr>
          </a:p>
        </p:txBody>
      </p:sp>
      <p:sp>
        <p:nvSpPr>
          <p:cNvPr id="110" name=""/>
          <p:cNvSpPr txBox="1"/>
          <p:nvPr/>
        </p:nvSpPr>
        <p:spPr>
          <a:xfrm>
            <a:off x="457200" y="190476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0308"/>
                </a:solidFill>
                <a:latin typeface="Arial"/>
              </a:rPr>
              <a:t>Exit Card:</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important thing about linear growing patterns that students struggle with 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xxxxxx</a:t>
            </a:r>
            <a:r>
              <a:rPr b="1" lang="en-CA" sz="4400" spc="-1" strike="noStrike">
                <a:solidFill>
                  <a:srgbClr val="008000"/>
                </a:solidFill>
                <a:latin typeface="Arial"/>
              </a:rPr>
              <a:t> </a:t>
            </a:r>
            <a:endParaRPr b="0" lang="en-US" sz="4400" spc="-1" strike="noStrike">
              <a:solidFill>
                <a:srgbClr val="0d469b"/>
              </a:solidFill>
              <a:latin typeface="Arial"/>
            </a:endParaRPr>
          </a:p>
        </p:txBody>
      </p:sp>
      <p:sp>
        <p:nvSpPr>
          <p:cNvPr id="112" name=""/>
          <p:cNvSpPr txBox="1"/>
          <p:nvPr/>
        </p:nvSpPr>
        <p:spPr>
          <a:xfrm>
            <a:off x="457200" y="190476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learning about linear growing patterns, students struggle with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build a math talk learning community</a:t>
            </a:r>
            <a:endParaRPr b="0" lang="en-US" sz="2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student struggles that are identified by teacher experiences or research</a:t>
            </a:r>
            <a:endParaRPr b="0" lang="en-US" sz="2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student struggles with strategies to address the struggles</a:t>
            </a:r>
            <a:endParaRPr b="0" lang="en-US" sz="2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assumptions about prior learning and how they affect questioning</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conceptual understanding of linear growing patterns through a variety of activiti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Important Things</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most important thing about parallel and open questions 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t>
            </a:r>
            <a:r>
              <a:rPr b="1" lang="en-CA" sz="3600" spc="-1" strike="noStrike">
                <a:solidFill>
                  <a:srgbClr val="008000"/>
                </a:solidFill>
                <a:latin typeface="Arial"/>
              </a:rPr>
              <a:t>First Word/Last Word</a:t>
            </a:r>
            <a:endParaRPr b="0" lang="en-US" sz="36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fontScale="99000"/>
          </a:bodyPr>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individually. Highlight 2-3 items. </a:t>
            </a:r>
            <a:endParaRPr b="0" lang="en-US" sz="2800" spc="-1" strike="noStrike">
              <a:solidFill>
                <a:srgbClr val="000000"/>
              </a:solidFill>
              <a:latin typeface="Arial"/>
            </a:endParaRPr>
          </a:p>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urn – share one of your items – but do not comment on it. </a:t>
            </a:r>
            <a:endParaRPr b="0" lang="en-US" sz="2800" spc="-1" strike="noStrike">
              <a:solidFill>
                <a:srgbClr val="000000"/>
              </a:solidFill>
              <a:latin typeface="Arial"/>
            </a:endParaRPr>
          </a:p>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members comment – in round-robin fashion*- about the item (without cross-talk). </a:t>
            </a:r>
            <a:endParaRPr b="0" lang="en-US" sz="2800" spc="-1" strike="noStrike">
              <a:solidFill>
                <a:srgbClr val="000000"/>
              </a:solidFill>
              <a:latin typeface="Arial"/>
            </a:endParaRPr>
          </a:p>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itial person who named the item then shares his or her thinking about the item and takes the last turn, making the final comments. </a:t>
            </a:r>
            <a:endParaRPr b="0" lang="en-US" sz="2800" spc="-1" strike="noStrike">
              <a:solidFill>
                <a:srgbClr val="000000"/>
              </a:solidFill>
              <a:latin typeface="Arial"/>
            </a:endParaRPr>
          </a:p>
          <a:p>
            <a:pPr marL="603360" indent="-6033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the pattern around the table. </a:t>
            </a:r>
            <a:r>
              <a:rPr b="0" lang="en-U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3360" indent="-60336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t>
            </a:r>
            <a:r>
              <a:rPr b="0" i="1" lang="en-US" sz="1400" spc="-1" strike="noStrike">
                <a:solidFill>
                  <a:srgbClr val="000000"/>
                </a:solidFill>
                <a:latin typeface="Arial"/>
              </a:rPr>
              <a:t>Data-Driven Dialogue: A Facilitator’s Guide to Collaborative Inquiry </a:t>
            </a:r>
            <a:r>
              <a:rPr b="0" lang="en-US" sz="1400" spc="-1" strike="noStrike">
                <a:solidFill>
                  <a:srgbClr val="000000"/>
                </a:solidFill>
                <a:latin typeface="Arial"/>
              </a:rPr>
              <a:t> </a:t>
            </a:r>
            <a:endParaRPr b="0" lang="en-US" sz="1400" spc="-1" strike="noStrike">
              <a:solidFill>
                <a:srgbClr val="000000"/>
              </a:solidFill>
              <a:latin typeface="Arial"/>
            </a:endParaRPr>
          </a:p>
          <a:p>
            <a:pPr marL="603360" indent="-60336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Bruce Wellman and Laura Lipton Page 138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t>
            </a:r>
            <a:r>
              <a:rPr b="1" lang="en-CA" sz="3600" spc="-1" strike="noStrike">
                <a:solidFill>
                  <a:srgbClr val="008000"/>
                </a:solidFill>
                <a:latin typeface="Arial"/>
              </a:rPr>
              <a:t>First Word/Last Word</a:t>
            </a:r>
            <a:endParaRPr b="0" lang="en-US" sz="36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students a set of problems. Ask them to highlight information they Know.</a:t>
            </a:r>
            <a:endParaRPr b="0" lang="en-US" sz="2800" spc="-1" strike="noStrike">
              <a:solidFill>
                <a:srgbClr val="000000"/>
              </a:solidFill>
              <a:latin typeface="Arial"/>
            </a:endParaRPr>
          </a:p>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students a set of solutions with errors. Ask them to highlight the errors.</a:t>
            </a:r>
            <a:endParaRPr b="0" lang="en-US" sz="2800" spc="-1" strike="noStrike">
              <a:solidFill>
                <a:srgbClr val="000000"/>
              </a:solidFill>
              <a:latin typeface="Arial"/>
            </a:endParaRPr>
          </a:p>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students an anticipation guide. Share response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Action - XXXX</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609480" indent="-609480">
              <a:spcAft>
                <a:spcPts val="28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Ruth&g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Struggles</a:t>
            </a:r>
            <a:endParaRPr b="0" lang="en-US" sz="44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learning about linear growing patterns, some stumbling blocks for students ar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Reflecting</a:t>
            </a:r>
            <a:endParaRPr b="0" lang="en-US" sz="4400" spc="-1" strike="noStrike">
              <a:solidFill>
                <a:srgbClr val="0d469b"/>
              </a:solidFill>
              <a:latin typeface="Arial"/>
            </a:endParaRPr>
          </a:p>
        </p:txBody>
      </p:sp>
      <p:sp>
        <p:nvSpPr>
          <p:cNvPr id="108" name=""/>
          <p:cNvSpPr txBox="1"/>
          <p:nvPr/>
        </p:nvSpPr>
        <p:spPr>
          <a:xfrm>
            <a:off x="457200" y="1904760"/>
            <a:ext cx="8229600" cy="4724280"/>
          </a:xfrm>
          <a:prstGeom prst="rect">
            <a:avLst/>
          </a:prstGeom>
          <a:noFill/>
          <a:ln w="0">
            <a:noFill/>
          </a:ln>
        </p:spPr>
        <p:txBody>
          <a:bodyPr anchor="t">
            <a:normAutofit/>
          </a:bodyPr>
          <a:p>
            <a:pPr marL="17316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when should shrinking patterns be addressed?</a:t>
            </a:r>
            <a:endParaRPr b="0" lang="en-US" sz="2800" spc="-1" strike="noStrike">
              <a:solidFill>
                <a:srgbClr val="000000"/>
              </a:solidFill>
              <a:latin typeface="Arial"/>
            </a:endParaRPr>
          </a:p>
          <a:p>
            <a:pPr marL="17316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linear patterns be contrasted with non-linear patterns?</a:t>
            </a:r>
            <a:endParaRPr b="0" lang="en-US" sz="2800" spc="-1" strike="noStrike">
              <a:solidFill>
                <a:srgbClr val="000000"/>
              </a:solidFill>
              <a:latin typeface="Arial"/>
            </a:endParaRPr>
          </a:p>
          <a:p>
            <a:pPr marL="17316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move away from concrete models too quickly?</a:t>
            </a:r>
            <a:endParaRPr b="0" lang="en-US" sz="2800" spc="-1" strike="noStrike">
              <a:solidFill>
                <a:srgbClr val="000000"/>
              </a:solidFill>
              <a:latin typeface="Arial"/>
            </a:endParaRPr>
          </a:p>
          <a:p>
            <a:pPr marL="17316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e do enough with non-integer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 </cp:lastModifiedBy>
  <dcterms:modified xsi:type="dcterms:W3CDTF">2009-07-20T19:55:40Z</dcterms:modified>
  <cp:revision>131</cp:revision>
  <dc:subject/>
  <dc:title>Slide 1</dc:title>
</cp:coreProperties>
</file>